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A601-0143-466E-9F8C-A2A2462D2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hortage of ambition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149-91E5-462C-AC6C-10221E52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5F2-08EE-4B23-896C-7D034E79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C19-1E50-4F49-80CD-833F633D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173-224F-43D0-8D32-4F26B003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CA8-3691-41EA-BD67-083AA728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F0E-7A8B-4AD0-8319-D23A154E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BA8-A1B8-44B5-9FEE-C2CD7CF2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F2C-F8B7-40B5-8253-494C4736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EBE-C1C3-47A4-9485-4684A66B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13D-BF94-47ED-A481-C8516EF6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F20-11A5-4678-9994-FB52005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1D7-A32F-4330-8B3B-604D3F6C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D4B0-D7D9-44A0-BD5B-7D1C8E147566}" type="datetime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B29E4E25-0211-4270-A61E-1B240C12B3ED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FABRIC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rst year progress repor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ib van Langevelde, J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105520"/>
            <a:ext cx="4419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467840" cy="603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96080" y="243828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2.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PS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F83-0AD8-48DB-BCE2-A43A4569B22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70530-8FD2-4329-941D-136C6BAD34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oftware correlato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4038480" cy="2854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able software cor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 computer en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en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with special purpose algorithm for Huygens 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eme high spectral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for future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better signal to noise performance than 2-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ing astronomy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transferred to standard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s on cluster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not yet optim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226548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5105520" y="228600"/>
            <a:ext cx="129528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2.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570-5376-4E8B-8164-C1C55D2E74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05064-B100-4B97-953C-21BAECEBFF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790960" cy="43419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lator cor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228600"/>
            <a:ext cx="129528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2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5562360" cy="4186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371600" y="1676520"/>
            <a:ext cx="6095880" cy="45720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209680" y="1905120"/>
            <a:ext cx="5948640" cy="419724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95C-31C2-4E71-901A-171180BFA5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B546D-5D04-4AB4-B395-BF1568D5E6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18520" indent="-21852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project with &gt;30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2464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7 institutes and &gt;4 disci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0">
              <a:buNone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2464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-off meeting in Dwingeloo 22 Ma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meeting Poznan 27 Sep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tele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2464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ter meetings &amp; visits: correlator, protocols, i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2464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for sharing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2464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exploder with some external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0"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work package structure quite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D1D-A4B6-481A-AA16-EA4AF84D87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FC51C-F581-4C85-A730-A23C99D29C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halleng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hurdle for data ac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OB rather drastic new development 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investment in existing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s took some time, purchases ev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cquisition dependent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dge the gap between eVLBI and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several iterations and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s with variety of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trong 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67A-D7B8-4CE6-81FC-CAF454F2E2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0002C-7BE7-4F19-80AE-A143458789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ersonnel issu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ck-off in March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start at Poznan and partially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ost-doc level people JIVE took 6 &amp; 9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JBO digital engineer is shared with S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person only available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 of the work done by ‘matching’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for the design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manager is now also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ely delayed the integrated design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1EA-731A-4B29-BE4D-3DECC710E0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50BA2-06EA-4F4F-BEAE-BE68C0C3C1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ileston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066680"/>
          <a:ext cx="8534160" cy="5024520"/>
        </p:xfrm>
        <a:graphic>
          <a:graphicData uri="http://schemas.openxmlformats.org/drawingml/2006/table">
            <a:tbl>
              <a:tblPr/>
              <a:tblGrid>
                <a:gridCol w="1260360"/>
                <a:gridCol w="3235320"/>
                <a:gridCol w="914400"/>
                <a:gridCol w="822240"/>
                <a:gridCol w="952560"/>
                <a:gridCol w="1349280"/>
              </a:tblGrid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cquisition requirements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cols strategic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ualization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lator design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 design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-Grid design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 fringes PC-EV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FAR connection strategic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TR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cquisition design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-Grid interface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DF0-FCB6-427E-8454-4F2493A427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08FA4-7ECD-4023-8DA3-AB74CC2706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uture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rays of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oadband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dio-telescopes on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nternet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mput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4956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0" rIns="0" tIns="0" bIns="0" anchor="t">
            <a:normAutofit/>
          </a:bodyPr>
          <a:p>
            <a:pPr marL="26676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8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cquisition to work with 10Gbps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1720" indent="-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new filtering and sampling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8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8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bration issues and control software interface to tele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8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s from public domain transport to “priva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1720" indent="-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1720" indent="-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M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8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sala telescope on e-M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00600" y="1828800"/>
            <a:ext cx="4038480" cy="44956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0" rIns="0" tIns="0" bIns="0" anchor="t">
            <a:normAutofit/>
          </a:bodyPr>
          <a:p>
            <a:pPr marL="26676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764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Grid for calculating correlatio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virtual lab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flow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764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able software corre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evious Huygens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itable for Grid nodes and parallel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quality control, display and me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station demon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764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new science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77320" y="1219320"/>
            <a:ext cx="914400" cy="99036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1295280"/>
            <a:ext cx="914400" cy="99072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5A3-FE4D-4868-8DF0-D1D7EFF2C324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F6CEB-E941-4E4E-AA16-DEFDE71862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ata acquisi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formu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e complex decision to be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ing: Mk5 and PCEVN system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: dBBC and DBE 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tibility with corre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-MERLIN in/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O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BreakOut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GA and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10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 converter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+D into radically different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581280" cy="2554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10280" y="53352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M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64E-2ACD-42DE-BFC9-364154EF9B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46898-2417-44B6-B43A-E2280409EB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MERLIN interfa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4Gbps streams (Onsa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eed into e-MERLIN corre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tible to MERLIN channe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rchitecture as MERLIN out (SA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s data-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sta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or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with S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53000" y="3581280"/>
            <a:ext cx="5391000" cy="266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7010280" y="53352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Uni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E4A-605C-499E-9286-09F3BAE65D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C3902-1317-43ED-BB9E-A369229258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tocol research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testb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ange of controls in e.g. drop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ad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 certainly not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more prom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I-E needs mor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CP not robust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contributed effort by Uni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 available for FABRIC work later this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ring more specific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c discussion document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419360" cy="230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10280" y="53352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.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Uni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2EC-3152-467E-98AD-8705735A17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38A59-6DBA-4307-B906-FE4C6FD273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esting Onsala/7 month demo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ala will do 4Gbps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ing the e-MERLIN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upgrade under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PC-EV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at hig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sun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Metsäh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useful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53352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.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4648320" cy="3486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614-8C26-41CE-916E-49B758316E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8A0C2-1A78-4CF8-980F-06DB2C4A97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LOFAR connectivit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e-MER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LOFAR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ublic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for clock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s sta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c doc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419720" y="4572000"/>
          <a:ext cx="4560840" cy="16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572000"/>
                    <a:ext cx="45608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105520" y="4572000"/>
            <a:ext cx="1699920" cy="127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8459" t="23937" r="17277" b="26205"/>
          <a:stretch/>
        </p:blipFill>
        <p:spPr>
          <a:xfrm>
            <a:off x="4952880" y="533520"/>
            <a:ext cx="3886200" cy="3722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4400" y="4876920"/>
            <a:ext cx="129528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.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AS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518-F114-409C-9844-58773035F8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ED66C-701A-4663-861E-73FA57919F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tributed correl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currently in dedicated sili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purpos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2 bi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100 T-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needs at 20 P-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one on custom computers with 1op=1f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ing science demo would take a few cluster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correlation can outperform 2 bit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5486400" cy="385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19840" y="228600"/>
            <a:ext cx="2059200" cy="2743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1BF-0E24-43AC-BBED-38BD82515A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0160F-AEA1-40C2-8223-D9A6A5E92C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VLBI-Grid collabor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elescopes and correlator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deployed 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virtual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d a lot of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NC group new to VL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group new to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9 documents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: resourc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with data from Mk5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ed next 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flow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correlato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15228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2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PS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899320" y="1905120"/>
            <a:ext cx="3244680" cy="3657600"/>
          </a:xfrm>
          <a:prstGeom prst="rect">
            <a:avLst/>
          </a:prstGeom>
          <a:ln w="1584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3A0-C678-4228-91C4-1F82924D27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232AD-9BDD-423A-8099-44788B0DB8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yun</cp:lastModifiedBy>
  <dcterms:modified xsi:type="dcterms:W3CDTF">2007-04-16T18:45:3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